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F30D-0DB2-464D-8D8B-7ED6D089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FBA9-74C6-4606-A9AE-AC7885C4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8EDE-4C35-4C46-AB5A-4AE41578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343-C9A1-452D-B4A6-7E0CC820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1582-232F-46DD-ACDF-2126196E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047E-83A9-436F-885D-05EC8D0C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05E1-3347-4E32-95F3-01A4F86C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D893-9AA5-436C-A5F0-45C68722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CC9A-BDBE-4075-82D7-6CECA6E8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4794-5989-41FC-987D-608BD519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D9939-56D4-420D-874F-1510A277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400-5300-44A6-982C-34D5B0F28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2D47-9E3A-4E63-81F7-B5670CC8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CAB-9122-4FFA-A120-4329768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4CDC-96C0-4AB9-BFDE-3591100A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33F4-3423-4F77-9814-9FF5A610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6EC1-AD2B-4AE5-BEBC-1C1609054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54AC3-112B-4D92-9FEA-EF5C8611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7224-633B-42DC-9D96-1E13C7ED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0E91-6D4D-428B-B23B-0D81E0BC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B9456-2B7A-4597-A12A-E1D5A6D3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86A38-1545-4AC3-8937-EBA9AE0D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735-A98E-40BD-89FA-C9608407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0189-0150-4183-A86B-B2D977DC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F0B79-7A7E-4B25-8AC9-9BB13466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E9D96-5E80-4873-9E3E-AA6F1A74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DEA5-3D10-4039-BE10-4F23EE2B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ECCD3-D97C-49BB-8811-B49116CB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BC74E-0CEC-4993-8DC0-876A228C7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703D-6A9F-4EFA-822F-020A3C62A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0E7B9-E82D-4217-AB4F-3695F613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81A97-4093-4114-B9CF-1A42D379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1EE12-F716-4260-AA97-D95000BCF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4045-EAE3-4864-B4B6-7EA01D6B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3BBE-307D-466F-B408-230764CE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AA3DB-BF34-4434-90FD-64F73E6D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E939E-3C2F-4F96-B039-470641D2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65254-9E88-47E5-BAD1-317D31E3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92971-149B-4D24-9525-1418FFEA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E3C8A-CE1A-4E1A-9665-302D18A8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C5323-3DF2-4D74-A6CE-EEA6AD85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47041-A5ED-4086-BAF3-1E327EBA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AD912-1865-4684-85A5-A10DDA50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32A8D-6B32-42BB-A532-90546FEA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40B3-40A9-43BF-B8EE-08059D9BF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E8555-1E42-4AF5-A7A6-ACA16B22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E4E0B-2F42-442E-AF2B-608AAF1C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BF024-9EC2-4E23-A42F-06D33695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1509-10F4-42F4-9D34-47858631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5475C-23DF-4012-A454-E9A3CBB1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317CC-3ECF-4E3F-9867-D4175A17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D2D0E-139A-4D9D-A1B6-BC21AC9C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311BE-82F0-4BC6-B6A5-C5E0AF6F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628BB-75BD-42E6-BDEC-6B442509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B121A-0F05-49F5-93AB-E946E1B7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8949-9BD3-475D-9115-1B405A21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A83E5-A6D6-4711-AE50-58813573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44D45-B187-442F-B299-2EAF8164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D5E19-1253-4F5D-BDDB-5F0DD46F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993D2-A74B-41D5-BD7F-05F810DE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EBE25-6563-461B-912E-869F51D5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0EF41-76A7-4F07-B9A0-2D85B5A6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E23A-BA81-40FE-B536-350B9612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D05CC-CC5A-4747-8AA6-C01E07B3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58595-BF56-4A80-ABB9-21B8DAEC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2A615-F5D7-49EF-8B1A-0F57313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B406-8876-4C24-BBDE-795A56C1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DA3CF-37FB-4A2A-AFB6-E5980BC4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5C744-3F0A-4C6D-A613-5C55F39B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7A8C-AB59-4B4F-8344-E7B91224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98023-0853-40C9-B54A-E40FFA9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F9E7D-0D96-4777-970F-898D9C7C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7285E-4621-42EB-B3DE-D636F4FA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CA593-63F1-41C4-B287-52AADCF6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3BEE3-383B-43D6-A6EF-2CF8F2F8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74825-B626-409C-BBEF-2FBA2449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C70CD-5DE8-40B5-A824-FA2D9E60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EE46-4A8C-4B19-8D1B-816D4430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3B8A1-477F-4F43-954F-78ACB383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4882E-8FEF-4519-89F0-115E29F17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BCD1F-3BE0-4236-B59A-04885F62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B8F560-8D1B-46FA-ACC9-F6709C88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5B151-AACA-403B-AB3D-2B9801FD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B5DF8-0A46-4D20-8925-5D180072F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532A9-2F2A-4DDC-8376-E822AEB4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C5EC0-7566-46B2-95AF-978094F2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93E98-A9AB-4E39-921B-6DAF03C3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27EBD-0B83-45CE-8D4B-C5789D96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AB2-AEA5-4452-9CE0-A35F145F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560F3-14C0-4DD4-B960-8AC06DF2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53D9B-4AE8-4874-97F1-FCE7A3CE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8957B-CB84-4565-9673-5CC329D6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691C3-466F-43DE-BF50-50DBFE8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E4B9F-533C-4024-AA71-96A53949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2A008-4C04-47A1-8E26-EDBA69EA7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901F7-70B8-48AB-9796-C0AC427C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009DE-B41D-4AF2-B04A-5A8D0794B18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10E4-EFB9-4A46-A8AC-1BCEB81D2AD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3606A-F22F-4B8C-B591-1FEC3FD59CD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C6E-D2ED-48BE-BCD0-CC6813EE98E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CA1DB-DA9B-48EB-8116-B8B66C9C86D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8B30-2E7E-4F10-BDA4-FEFA1779D4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C419-7222-4145-82A0-20EA7B197AA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3EFF-193B-428D-A4FE-E6AB3A81540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t in pairs – your preference for partn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ake a 3x5 card, fold in half (horiz. or vrtcl) making a name card “tent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n one side, in large letters, print –            “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THE BOS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”, then prin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your name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 smaller letters below th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t the card in front of you w/ THE BOSS facing the projection scre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essment: time to follow directions correct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3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Respect for other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ooking at resume characteristics – not sharing nam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Learning experienc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do not know” these people – do not be influenced by the names on resum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You are THE BOSS, this is YOUR business, YOUR success, YOUR income, YOUR family depend upon good decisions about who works for you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Assume these potential employees have the necessary specialty knowledge and skills for your job opening – looking at “soft skills” &amp; intangib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suming these potential employees have the necessary specialty knowledge &amp; skills for your job op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instorm with your partner other characteristics you would value in an employee for your compan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st these traits on the back, outside of your “BOSS” t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eep folders closed w/ papers insid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re does it “fall” in the employment proces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w is it used by the employer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creening de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e potential employe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impressio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vides “leads” to follow-u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mployer looking for a “good fit” to his/her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3 per folder; one minute to view all three, then you will pass the folder 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GOAL: impact of the resum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Remember “safety of Semin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haracteristics of the resume layou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Visual impac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Quality of the information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What do you notice, what message does it send?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Make note of your “first impression”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ide of “BOSS” tent = resume characteristic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Good/incorporate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- Poor/avoid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381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1:32:56Z</dcterms:created>
  <dc:creator>bguenther</dc:creator>
  <dc:description/>
  <dc:language>en-US</dc:language>
  <cp:lastModifiedBy>bguenther</cp:lastModifiedBy>
  <dcterms:modified xsi:type="dcterms:W3CDTF">2009-10-26T12:49:25Z</dcterms:modified>
  <cp:revision>8</cp:revision>
  <dc:subject/>
  <dc:title>Challenge – Session #4</dc:title>
</cp:coreProperties>
</file>